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E4C-22D5-44CD-98FC-83BFC6D8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E60-7026-4E65-9DE3-FEB7FA0C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5F3-DD66-4392-8E94-BCCAD920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57E2-44BE-4293-A04A-E1CA2AEC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086-4344-40FA-9ED6-B0E7B3CF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1CD-BB8E-4408-978B-4904F0F2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F31-677E-4FF9-938A-A7C1428F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FAF-E996-4456-A7C9-1487BCAC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392-7D5C-46E7-B1A1-729522D5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C8B-4905-424D-AFCA-081316AB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4AC-2924-422C-B054-9FE20231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56F-6564-41BD-A6C1-D922651E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13EC-C8D0-4986-94B8-DAD04EA57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o.wikipedia.org/wiki/Arbust" TargetMode="External"/><Relationship Id="rId2" Type="http://schemas.openxmlformats.org/officeDocument/2006/relationships/hyperlink" Target="http://ro.wikipedia.org/wiki/Rosaceae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Zmeur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 este un 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bus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tufos, peren, cu lăstari târâtori, cu tulpini drepte, arcuite spre vârf, cu ghimpi drepți, de forma unor ace, adeseori plasați numai pe partea inferioară. Zmeurul aparține familiei 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osacea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37054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0:15:59Z</dcterms:created>
  <dc:creator>Elev</dc:creator>
  <dc:description/>
  <dc:language>en-US</dc:language>
  <cp:lastModifiedBy>Elev</cp:lastModifiedBy>
  <dcterms:modified xsi:type="dcterms:W3CDTF">2012-06-18T10:18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